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CCB8-7713-4528-8488-AFE15B5B7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1A8-9B15-48F0-B29C-768DAA82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1ACA-5BFF-49FA-9F6D-E8859A75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E73B-49A2-46F5-8A97-D96A1C051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1F8-432D-4FA8-AAB6-C31C9CA1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D68-3E72-4AD4-8C98-26675CE9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FBC-1FD0-488A-BBBF-74A88BD6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D4F-0A8F-45E4-8D93-93F15109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29DC-7225-47C7-BF77-FA41D5DD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417-A682-40E0-8388-24A6B9FF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AEA6-A83F-48A3-AC33-F1C275B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13F-2E8B-483B-A9D8-E43C9586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4C90-010F-44F9-8F6D-B6375FB41DF1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0012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4. 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98989"/>
                </a:solidFill>
                <a:latin typeface="Comic Sans MS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428760" y="808920"/>
            <a:ext cx="80722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 барбитурате са ултракратким дејством спадају тиопентон натријум, метохекситал натријум и тиамилал натрију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и се користе највише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увођењ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болесника у општу анестезију, а знатно ређе за одржавање анестезије код кратких интервенција, или за продубљивање анестезије изазване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0040" y="107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br>
              <a:rPr sz="2800"/>
            </a:br>
            <a:br>
              <a:rPr sz="3200"/>
            </a:b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арбитурати са ултра-кратким дејство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500040" y="2714760"/>
            <a:ext cx="807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бре особине барбитурата са ултра-кратким дејством су: брз и пријатан увод у анестезију, ретко изазивање повраћања, и чињеница да не долази до сензибилизације миокарда на катехоламине, нити до повећања секреције у респираторним путевим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жељена дејства ових лекова обухватају депресију миокарда и ширење венског система (због чега се смањује минутни волумен срца), депресију дисања и понекад ларингоспаза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750960"/>
            <a:ext cx="91440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свих бензодиазепина, за интравенску анестезију се највише корист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мидазола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пре свега због кратког дејства и растворљивости у води (интравенски препарат као растварач садржи воду, па не иритира зид вене приликом ињекције)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дазолам се, за разлику од осталих интравенских анестетика, брзо метаболише у јетри, тако да му је време полу-елиминације свега 1-2 ча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дазолам се користи пре свега з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весну седацију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потребну код краћих, непријатних интервенција. Пацијент не губи свест потпуно, и може реаговати на вербалне команде, док истовремено добро подноси непријатне и болне процедуре (нпр. бронхоскопију, превијање, итд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214200" y="612720"/>
            <a:ext cx="892980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Пропофол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интравенски анестетик који кратко делује и брзо се метаболише у јетри и другим ткивима до инактивних метаболита. Користи се за увођење пацијената у анестезију, за одржавање анестезије заједно са опиоидима, за свесну седацију и као додатак општој инхалационој анестезији. Добра страна пропофола је антиеметичко деј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пофол депримира рад срца и дисање, доводећи до хипотензије; међутим, рефлексна тахикардија се не јавља, јер су инхибирани и барорецептори. Поред тога, примена пропофола може бити (додуше врло ретко) удружена са појавом конвулзија. Приликом интравенске примене лек може изазвати надражај зида вене и бол, тако да треба избегавати примену преко мањих в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57120" y="571680"/>
            <a:ext cx="87868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 односу на барбитурате и пропофол,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томид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безбедниј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лек за примену, јер не доводи до значајније депресије рада срца или дисања, уз благо ширење коронарних ар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он се, као пропофол, релативно брзо метаболише у јетри (време полу-елиминације око 3 часа), па нема тенденцију нагомилавања код дуже примене. Користи се за увођење пацијената у анестезију, и као додатак анестезији изазваној другим средстви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ше стране етомидата су појава миоклоничких напада код око 42% пацијената, иритација вене на месту примене и пролазна супресија надбубрежне жљезде, која не може одговорити на стрес ослобађањем довољне количине хорм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214200" y="1500120"/>
            <a:ext cx="8715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настанак акционог потенцијала у нервним влакнима неопходно је отварање канала за натријум у мембрани влакна. Локални анестетици блокирају канале за натријум са цитоплазматске стране и тако онемогућавају настанак акционог потенцијала, тј. прекидају ширење информација дуж нер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окални анестетици прво блокирају немијелинизирана и слабо мијелинизирана нервна влакна (Ц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а тек касније дебела, потпуно мијелинизирана влакна (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и А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лакна). Зато се после примене локалних анестетика првенствено губе осећај бола и топлоте, док осећај додира и функција моторних нерава остају најчешће очува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ОКАЛНИ АНЕСТЕТИЦ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28760" y="1305000"/>
            <a:ext cx="871524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оје две врсте локалних анестети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естр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прокаин, тетракаин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амид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лидокаин, бупивакаин, левобупивакаи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опивакаин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ужина дејства локалних анестетика првенствено завис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 брзине којом се отклањају са места дејства,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шта веома утиче степен вазодилатације: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давањем вазоконстриктора (нпр. адреналина)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ом анестетику дејство се може значај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дужи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естара траје краће (око 45 минута) и јер их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е псеудохолинестераза из крвне плазме, 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о амида нешто дуже (око 1-1.5 час), јер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злаж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285840" y="1558080"/>
            <a:ext cx="86439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кси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ма</a:t>
            </a:r>
            <a:r>
              <a:rPr b="1" lang="sr-CS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амо сензорна вла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н излази из лобање кроз овални отвор и улази у птериго-палатиналну јаму. Део влакана из максиларног нерва одлази у сфенопалатинални ганглион, а из њега излазе три мања нер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назо-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утује дуж носног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птума и излази у усну дупљу кроз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цизив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 на тврдом непцу, инервишући слузокож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г дела тврог непц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већи палатин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пролази кроз вели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, и инервише периост и слузокожу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редине тврдог непца до кутња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њи палатинални нерв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који пролази кроз мањ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е и инервише меко непце и уву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14240" y="2143080"/>
            <a:ext cx="771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максиларног нерва излази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букалну гингиву, периодонцијум и пулпу горњих кутњака, изузев дела првог кутњ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ледећа грана максиларног нерва ј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преткутња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следња грана овог нерва ј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и горњи алвеолар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инервише горње секутиће и гингиву око њих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999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642960" y="2299680"/>
            <a:ext cx="7643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андибуларни нер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кође излази из ов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и улази у инфратемпоралну јам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елећи се на предњу и задњу гра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редње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гран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злаз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уги бук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слузокожу образа и гингиву ок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х  кутњака и другог преткутњака.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дње гране излазе и тања влакна ко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у кожу обр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Инервација зуба, вилица и оралне мукоз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00040" y="178596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задње г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злаз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лингвал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две предње трећине језика, п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усне дупље и гингиву са лингвалне стра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е вилице, као и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доњи алвеоларни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р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Доњи алвеоларни нерв инервише све кутњаке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е. Близу менталног отвора, доњ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лвеоларни нерв се дели на инцизивни нерв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нталне нерв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Ментални нерв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ер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укалну гингиву и слузокожу од менталн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твора па напред, укључујући кожу доње ус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 браде.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цизивни нер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инервише прв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еткутњак, очњак и доње секутић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1680" y="1357200"/>
            <a:ext cx="83581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Локални анестетиц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убризгавају у близин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менутих нерава, зависно од зуба на којем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рши поправка, или који се вади. После 5-10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инута анестетик почиње да делује, и може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чети са интервенциј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бично се локални анестетик налази у истој ампу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а адреналином, који изазива вазоконстрикцију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порава апсорпцију анестетика са мест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имене, и тиме продужава дејство анестетика.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пуле тада морају да садрже и натријум мета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исулфит, редукционо средство које спречав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сидацију адреналина и губитак његово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јства. Дејство локалних анестетика обичн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је 30 – 60 мин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Rectangle 1"/>
          <p:cNvSpPr/>
          <p:nvPr/>
        </p:nvSpPr>
        <p:spPr>
          <a:xfrm>
            <a:off x="357120" y="2161440"/>
            <a:ext cx="828684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ко се локални анестетик убризга у близину неког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горе наведених нерав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спроводн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јер ће постати неосетљива цел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бласт коју инервише тај нерв, тј. из ко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овод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информације о болу до мозга); ако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и у ткиво или уз сам зуб који с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правља, то се зове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нфилтрациона 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Најзад, примена анестетика у вид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преја или размазивањем по слузокожи се зов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овршна анестезиј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окална анестезија у стоматологиј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28760" y="1785960"/>
            <a:ext cx="87152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гуће компликације локалне анестезије 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томатологији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ширење инфе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ато се не користе у инфицирано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киву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хемат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 (ако се повреди артеријски крвни суд иглом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вреда нерв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локада фацијалног нерва грешко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ендокардити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због уласка бакетрија у крв прил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мене ињекције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станак аритмиј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од особа са болесним срцем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28760" y="1428840"/>
            <a:ext cx="7929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олико се локални анестетици предозирај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ише од 600 мг прокаина или 400 мг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докаина), изазивају промене на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ЦН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вртоглавица, анксиозност, конфуз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емор, чак и конвулзије) 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кардиоваскуларном систем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тахикардиј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отензија, аритми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к естри могу да изазову </a:t>
            </a:r>
            <a:r>
              <a:rPr b="0" lang="sr-CS" sz="2400" spc="-1" strike="noStrike">
                <a:solidFill>
                  <a:srgbClr val="c00000"/>
                </a:solidFill>
                <a:latin typeface="Comic Sans MS"/>
              </a:rPr>
              <a:t>алергијске реак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с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мидима се то дешава изузетно ретко. На св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рећу, између амида и естара не пост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крштена алергија; ако је неко алергичан н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окални анестетик из групе естара, мож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езбедно да прими локални анестетик из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рупе амида, и обрну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едозирање локалних анестетик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785880" y="199692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себну токсичност међу локалним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нестетицима показује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бупивакаи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ко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е са великим афинитетом везује з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проводни систем срца, и изазива озбиљн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морске аритм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то се данас уместо бупивакаина све виш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ристе мање токсични лекови, као што с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оптички изомер левобупивакаин ил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егов хемијски аналог ропивака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500040" y="2512080"/>
            <a:ext cx="792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аблете су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врсти лековити препарати у виду плочица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округлог или овалног облика, глатких, равних или испупчених површина, оштрих или заобљених ивица, који садрже појединачну дозу једне или више лековитих супстанци, а настају компримовањем одређене запремине прашка, микрокристала или гранул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ТАБЛЕТЕ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Tabletta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1143000" y="1996920"/>
            <a:ext cx="6929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сим главног лека, таблете увек садрже конституенс (прости шећери, скроб или нешто друго) и средство за бубрење (агар или скроб) које омогућава да се таблета после додира са водом распадне и тако ослободи лековиту супстанцу. Поред тога, у таблетама се могу наћи и средства за везивање, клизање, корекцију мириса и укуса, за облагање, бојење и друго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Врст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21428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еобложен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ражеј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тардне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илм та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Еферв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нгвалете и бука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ри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олубл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агинал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уферет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571680" y="1063080"/>
            <a:ext cx="8072280" cy="50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ки гасови (азот-субоксид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</a:t>
            </a:r>
            <a:r>
              <a:rPr b="0" lang="sr-CS" sz="2400" spc="-1" strike="noStrike" baseline="-30000">
                <a:solidFill>
                  <a:srgbClr val="000000"/>
                </a:solidFill>
                <a:latin typeface="Comic Sans MS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) и паре лако испарљивих течности (етар, халотан, енфлуран, изофлуран, севофлуран, десфлуран) који путем инхалације и алвеоло-капиларне мембране доспевају у крвоток, а затим у ЦНС, доводе до депресије активности неурона и анестез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олекуларни механизам њиховог деловања још увек није јасан. Гасови и паре се и уносе и елиминишу преко плућа; само неки од њих (нпр. халотан) се једним делом метаболишу у јетр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рописивање таблет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643040" y="2705040"/>
            <a:ext cx="642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icet tablettae         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catulam originalem  N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Uzeti jednu tabletu na 6 s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285840" y="1357200"/>
            <a:ext cx="850104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Азот-субокси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ије довољно јак анестетик, тако да сам не може да обезбеди потребну дубину анестезије; његово дејство мора да се појача истовременом применом другог инхалационог анестетика (на пример 40% азот-субоксида и 0.5% халотана), опијатних аналгетика (обично фентанила), неуролептика (најчешће дроперидола) или комбинације ових лекова (комбинација фентанила и дроперидола, позната под именом Таламонал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је посебно у честој употреб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шта анестезија у којој се као додатак користе неуролептици се назива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"неуролепт-анестезиј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500040" y="500040"/>
            <a:ext cx="79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428760" y="428760"/>
            <a:ext cx="82152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Халотан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депримира респираторни центар и кардиоваскуларни систем (директна депресија миокарда, инхибиција барорецепторског рефлекса, хипотензија), сензибилише миокард на катехоламине и смањује проток крви кроз коронарне артерије. Такође смањује проток крви кроз бубреге (тиме смањује диурезу), а повећава проток крви кроз мозак и интракранијални притиса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То је изузетно јак анестетик (МАК=0.5%), али га треба примењивати опрезно код особа са обољењима срца, бубрега или повредама ЦНС-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Халотан се у јетри оксидише, при чему настају токсични метаболити: трифлуоросирћетна киселина, и слободни јони брома и хлора. Поновљене анестезије са халотаном повећавају ризик од настанка хепатитиса, који је редак (1:35.000), али има тешку форм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785880" y="928800"/>
            <a:ext cx="7500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Енфлура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слично халотану депримира кардиоваскуларни систем (директна депресија миокарда, хипотензија, али без блокаде барорецепторског рефлекса) и сензибилише миокард на катехоламине. Понекад може изазвати тоничко-клоничке нападе код пацијената у анестезији. Пошто се током његовог метаболизма ослобађа јон флуора, који делује токсично на тубуле бубрега, понекад може доћи до пролазног оштећења функције бубре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85880" y="1000080"/>
            <a:ext cx="7786800" cy="42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ХАЛАЦИОН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Севофлура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мање растворљив у крви од осталих анестетика из ове групе, тако да му дејство почиње брже. Доводи до вазодилатације и смањења минутног волумена, повећава проток крви кроз мозак и подиже интракранијални притисак. Постоји сумња да у контакту са адсорбенсима за угљен-диоксид, који се налазе у машинама за анестезију, настају материје са нефротоксичним деј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357120" y="599400"/>
            <a:ext cx="8001000" cy="57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у интравенску анестезију постижемо лековима који се примењују интравенским путем, и поседују анестетички ефекат на централни нервни сист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једничко својство свих интравенских анестетика је липосолубилност, тако да они после убризгавања у вену већ у наредним секундама доспевају до ЦНС-а и постижу високе концентрације у можданом ткиву, које због одличне прокрвљености прима чак ¼ минутног волумена срца. Зато интравенски анестетици веома брзо доводе до губитка св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ПШТА ИНТРАВЕНСКА АНЕСТЕЗИЈ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14240" y="2000160"/>
            <a:ext cx="7643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00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ђутим, дејство интравенских анестетика траје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кратко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(пацијенти се пробуде после 15-так минута), јер долази д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едистрибуције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тј. враћања лека из можданог ткива у крв, а затим преласка из крви у слабије прокрвљена ткива (мишићно и масно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nezana</cp:lastModifiedBy>
  <dcterms:modified xsi:type="dcterms:W3CDTF">2011-09-12T12:41:25Z</dcterms:modified>
  <cp:revision>79</cp:revision>
  <dc:subject/>
  <dc:title>Slide 1</dc:title>
</cp:coreProperties>
</file>